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3.pct" ContentType="image/x-pict"/>
  <Override PartName="/ppt/media/image8.pct" ContentType="image/x-pict"/>
  <Override PartName="/ppt/media/image17.pct" ContentType="image/x-pict"/>
  <Override PartName="/ppt/media/image15.pct" ContentType="image/x-pict"/>
  <Override PartName="/ppt/media/image14.jpeg" ContentType="image/jpeg"/>
  <Override PartName="/ppt/media/image19.pct" ContentType="image/x-pict"/>
  <Override PartName="/ppt/media/image18.pct" ContentType="image/x-pict"/>
  <Override PartName="/ppt/media/image1.jpeg" ContentType="image/jpeg"/>
  <Override PartName="/ppt/media/image2.pct" ContentType="image/x-pict"/>
  <Override PartName="/ppt/media/image12.jpeg" ContentType="image/jpeg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10.jpeg" ContentType="image/jpeg"/>
  <Override PartName="/ppt/media/image16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01AC-D0D2-487D-B2B5-C337FFB30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2E57-76B9-4795-9403-AFF23915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2F02-5AF7-4D6C-90EF-461B13113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597D-8CE7-4935-A74E-6BC8B65B1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A4D8-E140-40FD-A3B8-BE3D47CE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25CE-DDBE-4A45-9478-A6985238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7243-D96A-4A71-BDB7-AC850E08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2718-537E-45AF-BECD-06C30200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64DA-BB85-410A-A56D-F48DBA46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1FD6-B7E2-4282-8830-C363018E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BBEB-CB91-43B1-9298-4CED77E1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571A-B5FD-49BA-90E3-2F679D63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830F-807D-466F-9CB8-464C2FACF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b/b0/MtRushmore_TR_close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b/bd/TAFT1909.JPG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pct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image" Target="../media/image18.pct"/><Relationship Id="rId3" Type="http://schemas.openxmlformats.org/officeDocument/2006/relationships/image" Target="../media/image19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essiv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ddy Roosev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Howard T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odrow Wil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Image:MtRushmore TR clos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0"/>
            <a:ext cx="5541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essiv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ring about reforms to make better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y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em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afe working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upt poli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fair busi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5120" y="0"/>
            <a:ext cx="555948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8290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Were They Going to Change Americ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government to a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e big busi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welfare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people to hel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e Addams of Hull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1903320"/>
            <a:ext cx="7772400" cy="4954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600200" y="1828800"/>
            <a:ext cx="5943600" cy="4770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Welfare Pr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you live if you have unem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you get money if you had an acc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you health insu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you to have a basic standard of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ddy Rooseve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uare D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ed Mine Workers str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e busi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and Drug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-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 big, powerful busi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llowstone, Grand Can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66680" y="25560"/>
            <a:ext cx="6553440" cy="6832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1981080" y="-61920"/>
            <a:ext cx="7162920" cy="6919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liam Howard Ta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ed by T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d anti-trust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ed progressive r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Image:TAFT190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7480" y="0"/>
            <a:ext cx="518652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919080" y="1981080"/>
            <a:ext cx="334188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odrow Wil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n because the Republican Party was spl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the Federal Reserv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ed banking in the United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 dol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4054320" cy="4724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4784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600200" y="0"/>
            <a:ext cx="593244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733920" y="1447920"/>
            <a:ext cx="311616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21:16:13Z</dcterms:created>
  <dc:creator>Buffalo Grove High School</dc:creator>
  <dc:description/>
  <dc:language>en-US</dc:language>
  <cp:lastModifiedBy>Buffalo Grove High School</cp:lastModifiedBy>
  <dcterms:modified xsi:type="dcterms:W3CDTF">2008-01-30T23:51:48Z</dcterms:modified>
  <cp:revision>4</cp:revision>
  <dc:subject/>
  <dc:title>Progressive Measures</dc:title>
</cp:coreProperties>
</file>